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8A1-8E8F-4400-8A6C-6F701141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0664-17C5-4F03-A82B-24CD9A6E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C8CD-4702-4F28-AF08-C512CB48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41E8-3450-4570-88CB-A2ED125D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E38-51F8-451C-BEA5-4EA77C56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197-F7C2-495E-85FB-CBD50FA7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1A9-D11B-4C6D-93E5-901B7AE3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F6E-BAB5-4B07-985D-51B2DD89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9F2-CACB-4B3F-8B03-09F69244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EE5-7D70-4601-A80F-896D1E08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13C-6DBB-449D-9D48-ADB0435F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00F-D603-441F-B83E-29C81C9B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E95C-1A67-4E25-95D3-41569E728B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lip it Forward!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ke and share movi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Macintosh HD:Users:jposer:Documents:jobs:new paltz:time travel:60_minutes.mov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40640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6840" y="528480"/>
            <a:ext cx="841032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lip it Forward Workshop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ot 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 video to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Teachertube acc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load video to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h shoot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video that is at least 3 minutes lo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n ‘educational’ video- teach us how to do someth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ot a ‘rebus’- a visual puzzle in which words are represented by combinations of pictures and lett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topic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video of frivolous and f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monsters or food or feelings or things that begin with the letter Zor something about the weather or things that are furry or feathery or fuzz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ransferring video to the compu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B connection ‘flips’ out of the camer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see the camera appear on the desktop, double click on the camera ic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the folder labeled DC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video will be in the folder 100VIDE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ploading to the Intern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tube and Teachertub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n accou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loa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9:32:15Z</dcterms:created>
  <dc:creator>Jessica Poser</dc:creator>
  <dc:description/>
  <dc:language>en-US</dc:language>
  <cp:lastModifiedBy>Jessica Poser</cp:lastModifiedBy>
  <dcterms:modified xsi:type="dcterms:W3CDTF">2010-05-01T01:06:29Z</dcterms:modified>
  <cp:revision>6</cp:revision>
  <dc:subject/>
  <dc:title>Flip it Forward! Make and share movies</dc:title>
</cp:coreProperties>
</file>